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821D-12DF-4203-94C0-E3C4F640A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AA59-E56E-4ADA-8B1B-DEA7BEDB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689B-E5BD-4181-BB94-D818DF917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A782-0613-40EB-90C1-CC7DCDCB5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C362-3D10-4212-AC91-87A4298C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A73E-819C-4F1C-95F7-3586116B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DA6F-954A-4335-B9EA-1CF33257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44D1-0AB3-466E-9D1B-58B112B1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787F-2A76-4D27-97D3-C4D52050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1CD4-886C-4AEA-ABA6-D46AD672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6BA0-2F84-4F41-B67F-F2ADDCDE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65FB-4AF8-4078-AA52-C7D44AE4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B4E4-3139-43EA-BBC9-5F16018A5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Буфериране на изходното напрежение на ЦАП</a:t>
            </a:r>
            <a:br>
              <a:rPr sz="1800"/>
            </a:b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Основни предпоставки при избора на операционен усилвате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</a:rPr>
              <a:t>шум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</a:rPr>
              <a:t>честотна лент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</a:rPr>
              <a:t>изкривява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</a:rPr>
              <a:t>време за установяван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</a:rPr>
              <a:t>захранващо напрежен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</a:rPr>
              <a:t>вид на сигнала - диференциален или несиметричен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</a:rPr>
              <a:t>товароспособност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</a:rPr>
              <a:t>коефициент на усилване и стойности на определящите резистор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Буфериране, отместване и преобразуване в несиметричен напрежителен сигнал на изходния ток н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Ц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АП с диференциален изхо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Буфериране и преобразуване в несиметричен напрежителен сигнал на изходния ток н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Ц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АП с несиметричен изх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Буфериране и преобразуване в несиметричен напрежителен сигнал на изходния ток н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Ц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АП с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-2R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 матрица и несиметричен изх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Буфериране на изходния ток н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Ц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АП с диференциален изход и преобразуване в диференциален напрежителен сигнал чрез операционен усилвате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Активен НЧ филтър от 4-ред с полюсна честота 75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Hz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 за буфериране н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стерео Ц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АП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 1853 за звуково прилож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Управление на входовете за опорно напрежение н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АЦП и Ц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АП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2286000" cy="41148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8092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А) Използване на външен източник на опорно напреж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В) Използване на вътрешен източник на опорно напреж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Управление на входовете за опорно напрежение н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АЦП и Ц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А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2362320" cy="41148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14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С) Включване на вътрешен източник на опорно напрежение към преобразувател, който има и вход за външен източни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D) Включване на външен източник на опорно напрежение към преобразувател, който има и вътрешен източни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Управление на входовете за опорно напрежение н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АЦП и Ц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А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2438280" cy="41148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Е) Преобразувател с вътрешен източник на опорно напрежение към, който има възможност за включване и на външен източник, като се използва един общ изво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D) Включване на външен източник на опорно напрежение към преобразувател, който има и вътрешен източник и се използва един общ изво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Изкривяване на изходното напрежение на ЦАП,</a:t>
            </a:r>
            <a:br>
              <a:rPr sz="1800"/>
            </a:b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дължащо се на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glitch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 импулси</a:t>
            </a:r>
            <a:br>
              <a:rPr sz="1800"/>
            </a:br>
            <a:br>
              <a:rPr sz="1800"/>
            </a:b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Форма на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glitch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 импулси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Изкривяване на изходното напрежение на ЦАП,</a:t>
            </a:r>
            <a:br>
              <a:rPr sz="1800"/>
            </a:b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дължащо се на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glitch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 импулси</a:t>
            </a:r>
            <a:br>
              <a:rPr sz="1800"/>
            </a:br>
            <a:br>
              <a:rPr sz="1800"/>
            </a:b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Внасяне на хармонични изкривя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Потискане на изкривяването на изходното напрежение на ЦАП,</a:t>
            </a:r>
            <a:br>
              <a:rPr sz="1800"/>
            </a:b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дължащо се на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glitch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 импулси с използване на устройство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/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Буфериране на изходния сигнал на ЦАП с напрежителен изх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2286000"/>
            <a:ext cx="7772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Буфериране на изходния сигнал на ЦАП с токов изход</a:t>
            </a:r>
            <a:br>
              <a:rPr sz="1800"/>
            </a:br>
            <a:br>
              <a:rPr sz="1800"/>
            </a:b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Схема (С) е задължителна за ЦАП с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-2R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 матри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2971800"/>
            <a:ext cx="77724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Обобщен модел на съвременен ЦАП с токов изх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5638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Буфериране на изходния ток н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Ц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АП с диференциален изход и преобразуване в несиметричен напрежителен сигнал чрез трансформато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Буфериране на изходния ток н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Ц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АП с диференциален изход и преобразуване в несиметричен напрежителен сигнал чрез операционен усилвате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9T07:40:03Z</dcterms:created>
  <dc:creator>ET-PNIL</dc:creator>
  <dc:description/>
  <dc:language>en-US</dc:language>
  <cp:lastModifiedBy>PJakimov</cp:lastModifiedBy>
  <dcterms:modified xsi:type="dcterms:W3CDTF">2011-05-03T12:23:51Z</dcterms:modified>
  <cp:revision>12</cp:revision>
  <dc:subject/>
  <dc:title>Буфериране на входното напрежение на АЦП   Основни предпоставки при избора на операционен усилвател</dc:title>
</cp:coreProperties>
</file>