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91B-04DE-49C1-AEC5-A0DC7E84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7C8-CD1E-4445-BAF8-ADFAD72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0BA-99A7-4FBC-AD63-5D93E36D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A76-D699-4182-A4FE-F7DE752F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4B2-3181-407C-A84C-B9FF9EB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078-70A7-46A1-9838-13FD4747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5C0-C53D-4BBA-A95E-71DD3B5D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974-4C1E-4B8F-A2CE-DEA7693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B2C-3F1B-43C9-A6E8-4E7398F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8C0-C6A0-49B4-BEEF-BE33A4D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6A1-B768-4EA0-A36A-A87B87C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631-A4DF-433E-B252-AFAEF4A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B01-2BDA-42F9-9464-CC32BA9AD90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окова схема на система за събиране и преобразуване на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висимост между честотата на дискретизация, амплитудата на сигнала при честотата на препокриване и броя полюси на филтъ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2637000"/>
          <a:ext cx="8229600" cy="2765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полю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f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висимост между честотата на дискретизация, честотата на сигнала, динамичния диапазон и броя полюси на филтъ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Извеждане на уравнението за шумовата честотна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05080" cy="10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67280" y="20451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ата гранична честота н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га 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451640" y="1989000"/>
                <a:ext cx="792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7332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880" y="3169080"/>
            <a:ext cx="682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ата (еквивалентната правоъгълна) широч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стотната лента от гледна точка на изчисляване на шумовете се получава с израз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380360" y="3284640"/>
                <a:ext cx="1079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-193320" y="367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040" y="3700800"/>
            <a:ext cx="533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Нормираната предавателна характеристика на схемата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4005360"/>
                <a:ext cx="1133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1640" y="4652280"/>
            <a:ext cx="13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Следователн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4653000"/>
                <a:ext cx="1218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12000" y="537300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Тогав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84360" y="5737320"/>
                <a:ext cx="55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f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ctgx</m:t>
                                </m:r>
                                <m:sSub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Избор на място на филтъра в схемата  и на полюсна честота за намаляване на шума в изхода на усилвател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&lt;&lt;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5976720" cy="1863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59640" y="1600200"/>
            <a:ext cx="217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умът се интегрира върху по-тясната от честотните ленти на усилвателя и АЦ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умът се интегрира върху  честотната лента на филтъ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1882800"/>
            <a:ext cx="57610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020000" y="1652760"/>
                <a:ext cx="1655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и етапи при проектиране на схеми за нормализация на аналоговия сигнал в системите за събиране и преобразуване на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ределяне стойността на входното напрежение, стойността на синфазното напрежение  и стойността на отношението сигнал/шум на в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ределяне на разрядността на АЦП и необходимата стойност на отношението сигнал/шум на изхода на филтъ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ределяне на необходимата стойност на коефициента на потискане на синфазните сигнали от усилвателя и избор на елеме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иране на усилвател с такъв коефициент на усилване, който ще бъде достатъчен за постигане на отношение сигнал/шум в неговия изход по-голямо от 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числяване на полюсната честота на филтъра, необходима за постигане на зададената в т. 2 стойност на отношението сигнал/шум в неговия изход и сравняване на получената стойност на честотата с необходимата стойност за пълно покриване на честотния спектър на сиг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бор на честота на дискретизация и брой полюси на филтъра, осигуряващи динамичния диапазон на АЦ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о усилвателят е постояннотоков, се изчислява грешката от входното напрежение и входния ток на несиметрия и се проверява дали стойността й е по-висока от максимално допустимата за избрания АЦ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89000"/>
            <a:ext cx="8569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Дадено: входно напрежение – сложен периодичен сигнал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и пери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; синфазен сигнал (шум)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 Да се проектира схема за нормализация, осигуряваща 8-разрядно аналогово-цифрово преобразуване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5.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схемата да се използват резистори с точност 1%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тази стойност удовлетворява изискване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За операционен усилвате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се намира от амплитудно-честотната характеристика, че при коефициент на усилване с обратна връз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bg-BG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 100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, горната граничн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честота е 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H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Тогава полюсната честота на филтъра 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В същото време стойността на полюсната честота на филтъра трябва да бъ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Следователно схемата на диференциален усилвател с един операционен усилвател не може да осигури необходимото качество на сигн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523960" cy="497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378160" cy="63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2254320"/>
            <a:ext cx="2378160" cy="23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96000" y="2205000"/>
            <a:ext cx="30718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1411200" cy="41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227640" y="836640"/>
            <a:ext cx="2232000" cy="1216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3429000"/>
                <a:ext cx="2771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26240"/>
            <a:ext cx="395928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Използва се схема на инструментален усилвател с три операционни усилвателя. По този начин се осигурява по-голям коефициент на усилв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, а коефициентът на предаване за синфазния сигн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bg-BG" sz="1200" spc="-1" strike="noStrike" baseline="-25000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запазва своята стойност, тъй като за първото стъпало той е равен на 1. Коефициентът на усилв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се разделя по равно за двете стъпала, което води и до една и съща стойност на горната гранична честота.  Избира се стойност на коефициента на усилв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= 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, която се разделя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за всяко стъпало. Получава се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2565360"/>
                <a:ext cx="3009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 over  {R rSub { size 8{1}   rSup { size 8{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t xml:space="preserve">4,7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4,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9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3214800"/>
                <a:ext cx="2019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49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640" y="3860640"/>
                <a:ext cx="32101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247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14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8360" y="4424040"/>
            <a:ext cx="3672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От амплитудно-честотната характеристика на операционния усилвате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се намира, че при коефициент на усилване с обратна връз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 3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, горната гранична честота е 3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H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Г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орната гранична честота на двустъпалния усилвател 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53040" y="3644280"/>
            <a:ext cx="280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Тогава полюсната честота на филтъра 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64120" y="4005360"/>
                <a:ext cx="3311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01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48360" y="4652280"/>
            <a:ext cx="36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Получената стойност е много по-голяма от 4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ето показва, че двустъпалната схема осигурява много по-високо качество на сигн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11520" cy="1736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5445000"/>
                <a:ext cx="3152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9800" y="5733360"/>
            <a:ext cx="36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– брой на стъпалата при многостъпален усилвател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26028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Дадено: входно напрежение – сложен периодичен сигнал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и пери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; синфазен сигнал (шум)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 Да се проектира схема за нормализация, включваща инструментален усилвател с три операционни усилвате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741 и усилване 6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хемата да се използват резистори с точност 1%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2)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Да се определи стойността на отношението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9640" y="1268280"/>
                <a:ext cx="3514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01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8360" y="1760040"/>
            <a:ext cx="720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Следователно схемата осигурява 9-разрядно аналогово-цифрово преобразуване, където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2.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80" y="242424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Дадено: входно напрежение – сложен периодичен сигнал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и пери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; синфазен сигнал (шум) с ефективн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 Да се проектира схема за нормализация, включваща инструментален усилвател с три операционни усилвателя и усилване 6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, която трябва да осигури 8-разрядно аналогово-цифрово преобразуване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5.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. Да се изчисли минималната стойност на горната гранична честота на операционните усилватели в схемат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хемата да се използват резистори с точност 1%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,02)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572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Минималната стойност на горната гранична честота на двустъпалния усилвател в схемата е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39640" y="3933720"/>
                <a:ext cx="2695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1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6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68360" y="45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Минималната стойност на горната гранична честота на един усилвател от схемата е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9640" y="4869000"/>
                <a:ext cx="2705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,6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окова схема на аналоговия входен канал на система за събиране и преобразуване на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771640"/>
            <a:ext cx="8229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и зависимости в схемата на аналоговия входен кана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критерий за качество на сиг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96760" y="3933720"/>
            <a:ext cx="32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уравнение на аналоговия входен ка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200" y="465300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коефициент на фил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6760" y="5229360"/>
            <a:ext cx="537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полюсна честота на филтъра за осигуряване качеството на сиг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22400" y="3833640"/>
                <a:ext cx="1549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R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3429000"/>
                <a:ext cx="2387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2743200"/>
                <a:ext cx="1447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14400" y="2133720"/>
                <a:ext cx="106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1447920"/>
                <a:ext cx="1282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ef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f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15920" y="4584600"/>
                <a:ext cx="1498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03320" y="5207040"/>
                <a:ext cx="1257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висимост между разрядността на АЦП и качеството на сигн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S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/N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. един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.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ор на полюсна честота на филтъра в зависимост от вида и честотата на входния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2492280"/>
          <a:ext cx="8229600" cy="208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на сиг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юсна честота на филтъ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ен 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скорост на изме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оида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 периоди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период на основната хармо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чни импул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продължителност на импул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ор на честота на дискре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62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ор на честота на дискре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698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ор на честота на дискре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27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висимост между разрядността и динамичния диапазон на АЦ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751040"/>
            <a:ext cx="8136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3:47:29Z</dcterms:created>
  <dc:creator>PESHO</dc:creator>
  <dc:description/>
  <dc:language>en-US</dc:language>
  <cp:lastModifiedBy>PJakimov</cp:lastModifiedBy>
  <dcterms:modified xsi:type="dcterms:W3CDTF">2012-04-27T15:06:38Z</dcterms:modified>
  <cp:revision>63</cp:revision>
  <dc:subject/>
  <dc:title>Блокова схема на система за събиране и преобразуване на информация</dc:title>
</cp:coreProperties>
</file>