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50A-6D98-42BA-8C62-FCF9C9B2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518-B1EC-4CF8-9DF0-52E91FA2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ACF-ACFA-4C1B-A4D4-21D08251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228-2B30-4A5F-9DB1-B52732C1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48B-FC12-4DF3-A904-D4697567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975-5A69-407B-A8A4-27EC2009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61D-B7BF-4AAC-906E-41A846FE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3C6-8812-4056-AA8B-8C9FCC31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A43-DBF5-4B94-AF1E-F1D1CAB2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5A16-D121-4707-9198-7B2192D7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48E-D368-4D31-8792-BB76957F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DE51-DEDF-462F-9343-6ABB738F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1366-AB74-42E5-878D-3D5CA2E752B6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Буфериране на входното напрежение на АЦП</a:t>
            </a:r>
            <a:br>
              <a:rPr sz="1800"/>
            </a:b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Основни предпоставки при избора на операционен усилват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шу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честотна лен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изкривя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време за установява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захранващо напреж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вид на сигнала - диференциален или несиметрич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товароспособно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коефициент на усилване и стойности на определящите резистор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Буфериране н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MOS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АЦП с диференциален вход и превключваеми кондензатори</a:t>
            </a:r>
            <a:br>
              <a:rPr sz="1800"/>
            </a:b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Входен блок на схем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/H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 с превключваеми конденза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Буфериране н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MOS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АЦП с диференциален вход и превключваеми кондензатори при работа с несиметричен входен сиг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4360" y="1600200"/>
            <a:ext cx="777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Буфериране на входното напрежение и отместване при подаване на несиметричен входен сигнал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къ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MOS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АЦП с диференциален вход и превключваеми кондензато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Буфериране на входното напрежение и отместване при подаване на несиметричен входен сигнал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къ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MOS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АЦП с диференциален вход и превключваеми конденза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756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Подаване на входното напрежение къ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MOS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АЦП с диференциален вход чрез трансформ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771516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Входни буфери н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АЦП с диференциален в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Схемите са типични за АЦП, произведени по BiCMOS или биполярна техн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Трудно се произвеждат по CMOS техн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Улесняват проектирането на входните схе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Фиксираната стойност на синфазното напрежение може да ограничи гъвкавост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Входни буфери за преобразуване на несиметричен входен сигнал в диференциа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1938240"/>
            <a:ext cx="731520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813x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- интегрален входен буфер с диференциален вход и диференциален изход - функционална сх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813x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- интегрален входен буфер с диференциален вход и диференциален изход - еквивалентна сх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4835520" cy="2367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3868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C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UT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UT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Буфериране на входното напрежение и отместване при преобразуване на несиметричен сигнал в диференциа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768320"/>
            <a:ext cx="79246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Буфериране на входното напрежение на АЦП </a:t>
            </a:r>
            <a:br>
              <a:rPr sz="1800"/>
            </a:b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Схеми за усилване на входното напрежение и отмест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4343400" cy="2209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1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     - 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Буфериране на входното напрежение на АЦП </a:t>
            </a:r>
            <a:br>
              <a:rPr sz="1800"/>
            </a:b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Схеми за усилване на входното напрежение и отмест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2743200"/>
            <a:ext cx="5051160" cy="2514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866920" y="160020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- 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ІІ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Буфериране на входното напрежение на АЦП </a:t>
            </a:r>
            <a:br>
              <a:rPr sz="1800"/>
            </a:b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Схеми за усилване на входното напрежение и отмест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5112000" cy="259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81480" y="16765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     +[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].(1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Буфериране на входното напрежение на АЦП </a:t>
            </a:r>
            <a:br>
              <a:rPr sz="1800"/>
            </a:b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Схеми за усилване на входното напрежение и отмест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Буфериране на входното напрежение на АЦП </a:t>
            </a:r>
            <a:br>
              <a:rPr sz="1800"/>
            </a:b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Схеми за усилване на входното напрежение и отмест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Високо разрядните </a:t>
            </a:r>
            <a:r>
              <a:rPr b="1" lang="bg-BG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bg-BG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 АЦП в повечето случаи не изискват буфериране на входното напрежение, ако се използва буфер, той трябва да бъде прецизен, с малък шум (особено 1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1177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177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7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822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АЦП с използване н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R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 не изискват буфериране на входното напрежение когато източникът на сигнал е нискоомен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1k)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АЦП с мащабирани входове не изискват буфериране на входното напрежение когато източникът на сигнал е нискоо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4360" y="1600200"/>
            <a:ext cx="77752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07:01:33Z</dcterms:created>
  <dc:creator>PESHO</dc:creator>
  <dc:description/>
  <dc:language>en-US</dc:language>
  <cp:lastModifiedBy>PJakimov</cp:lastModifiedBy>
  <dcterms:modified xsi:type="dcterms:W3CDTF">2011-04-26T09:45:30Z</dcterms:modified>
  <cp:revision>27</cp:revision>
  <dc:subject/>
  <dc:title>Slide 1</dc:title>
</cp:coreProperties>
</file>