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2.png" ContentType="image/png"/>
  <Override PartName="/ppt/media/image7.wmf" ContentType="image/x-wmf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wmf" ContentType="image/x-wmf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.wmf" ContentType="image/x-wmf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02FB6-B1ED-4DDA-8131-486700FF8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4A521-3B07-4C63-B568-4A22DCE1C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DAE40-4AF3-4017-A971-8C1D4FD82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D9118-F18E-4AA7-ADF3-BDC999BB3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EC055-8901-4D49-93B2-B438C44D2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695EE-B3C5-4BE0-B6F9-5ECC78E35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1274A-1E8A-4309-A3F0-27E958BBD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5DF22-C946-4D8A-A49D-69CB8949C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FF13C-D943-45D1-B5A3-B3C3CC100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979AD-D910-4889-876C-67452FADF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786A3-7F52-49E9-8A1F-29DB4E88E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35E87-C0D5-41EC-BEFB-20C584437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F41EC-2A4A-4A12-8BEF-DF078A964A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СПЕЦИАЛИЗИРАНИ ИНТЕГРАЛНИ СХЕМИ НА УСИЛВАТЕЛИ С ПРОГРАМИРУЕМ КОЕФИЦИЕНТ НА УСИЛВАН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685800" y="3056040"/>
          <a:ext cx="7772400" cy="1963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3056040"/>
                    <a:ext cx="7772400" cy="196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Times New Roman"/>
              </a:rPr>
              <a:t>Операционни усилватели с програмиране на коефициента на усилване</a:t>
            </a:r>
            <a:br>
              <a:rPr sz="1400"/>
            </a:br>
            <a:r>
              <a:rPr b="1" lang="bg-BG" sz="1400" spc="-1" strike="noStrike">
                <a:solidFill>
                  <a:srgbClr val="000000"/>
                </a:solidFill>
                <a:latin typeface="Times New Roman"/>
              </a:rPr>
              <a:t>чрез вътрешни резистор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 62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3809880" cy="411480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Times New Roman"/>
              </a:rPr>
              <a:t>ОТЛИЧИТЕЛНИ КАЧЕСТВ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Times New Roman"/>
              </a:rPr>
              <a:t>AD624 притежава висока прецизност, малко входно напрежение на несиметрия и с малък температурен коефициент, малък шум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Times New Roman"/>
              </a:rPr>
              <a:t>Чрез подходящо свързване на изводите на схемата се програмират стойностите на коефициента на усилване 1, 100, 200, 500 и 1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Times New Roman"/>
              </a:rPr>
              <a:t>Проектиран за включване към сензори с ниско ниво на изходния сигнал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bg-BG" sz="1400" spc="-1" strike="noStrike">
                <a:solidFill>
                  <a:srgbClr val="000000"/>
                </a:solidFill>
                <a:latin typeface="Times New Roman"/>
              </a:rPr>
              <a:t>за сила и налягане) при измерване с висока разрешаваща способност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Times New Roman"/>
              </a:rPr>
              <a:t>Осигурява честотна лента 25 kHz при коефициент на усилване 1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 62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5562720" cy="411480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248520" y="1981080"/>
            <a:ext cx="2209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bg-BG" sz="28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bg-BG" sz="2800" spc="-1" strike="noStrike">
                <a:solidFill>
                  <a:srgbClr val="000000"/>
                </a:solidFill>
                <a:latin typeface="Times New Roman"/>
              </a:rPr>
              <a:t>=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Times New Roman"/>
              </a:rPr>
              <a:t>Операционни усилватели с програмиране на коефициента на усилване</a:t>
            </a:r>
            <a:br>
              <a:rPr sz="1400"/>
            </a:br>
            <a:r>
              <a:rPr b="1" lang="bg-BG" sz="1400" spc="-1" strike="noStrike">
                <a:solidFill>
                  <a:srgbClr val="000000"/>
                </a:solidFill>
                <a:latin typeface="Times New Roman"/>
              </a:rPr>
              <a:t>чрез външни резистор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 62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3809880" cy="411480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Times New Roman"/>
              </a:rPr>
              <a:t>ОТЛИЧИТЕЛНИ КАЧЕСТВ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Times New Roman"/>
              </a:rPr>
              <a:t>AD625 е прецизен инструментален усилвател, който позволява задаване на нестандартни стойности на коефи- циента на усилване и неговото лесно програмно управление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Times New Roman"/>
              </a:rPr>
              <a:t>AD625 осигурява 16 разрядна точност при фиксирана стойност на коефициента на усилване и 12 разрядна при програмно управление чрез мултиплексор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Times New Roman"/>
              </a:rPr>
              <a:t>Точността на коефициента на усилване и неговото температурно изменение зависят само от външните резистор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Times New Roman"/>
              </a:rPr>
              <a:t>Осигурява честотна лента 25 kHz при коефициент на усилване 1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 62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5334120" cy="4114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6095880" y="2362320"/>
                <a:ext cx="2438640" cy="120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 62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685800" y="1371600"/>
            <a:ext cx="77724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 62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4648320" cy="41148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5410080" y="1981080"/>
            <a:ext cx="30481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Times New Roman"/>
              </a:rPr>
              <a:t>Избор на стойности на външните резистори за получаване на различни стойности на коефициента на усилван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 62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685800" y="2286000"/>
            <a:ext cx="4876920" cy="3809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5562720" y="1981080"/>
            <a:ext cx="28954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Times New Roman"/>
              </a:rPr>
              <a:t>Управление на мощен товар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 62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952880" y="1981080"/>
            <a:ext cx="35053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Times New Roman"/>
              </a:rPr>
              <a:t>Преобразувател напрежение - ток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685800" y="2001960"/>
            <a:ext cx="419112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СПЕЦИАЛИЗИРАНИ ИНТЕГРАЛНИ СХЕМИ НА УСИЛВАТЕЛИ С ПРОГРАМИРУЕМ КОЕФИЦИЕНТ НА УСИЛВАН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685800" y="2475000"/>
          <a:ext cx="7772400" cy="3127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475000"/>
                    <a:ext cx="7772400" cy="312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60948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 62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685800" y="1295280"/>
            <a:ext cx="4444920" cy="48006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5715000" y="1981080"/>
            <a:ext cx="28954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Times New Roman"/>
              </a:rPr>
              <a:t>Програмно управление на напрежението на отместван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Times New Roman"/>
              </a:rPr>
              <a:t>Операционни усилватели с програмиране на коефициента на усилване</a:t>
            </a:r>
            <a:br>
              <a:rPr sz="1400"/>
            </a:br>
            <a:r>
              <a:rPr b="1" lang="bg-BG" sz="1400" spc="-1" strike="noStrike">
                <a:solidFill>
                  <a:srgbClr val="000000"/>
                </a:solidFill>
                <a:latin typeface="Times New Roman"/>
              </a:rPr>
              <a:t>чрез аналогов сигнал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 60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520" y="2209680"/>
            <a:ext cx="4343400" cy="411480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10516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Times New Roman"/>
              </a:rPr>
              <a:t>ОТЛИЧИТЕЛНИ КАЧЕСТВ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Times New Roman"/>
              </a:rPr>
              <a:t>AD603 е нискошумящ усилвател, който намира приложение в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RF</a:t>
            </a:r>
            <a:r>
              <a:rPr b="1" lang="bg-BG" sz="1400" spc="-1" strike="noStrike">
                <a:solidFill>
                  <a:srgbClr val="000000"/>
                </a:solidFill>
                <a:latin typeface="Times New Roman"/>
              </a:rPr>
              <a:t> системи, видео системи, за разширяване на динамичния обхват на АЦП, в измервателни систем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Times New Roman"/>
              </a:rPr>
              <a:t>AD603 осигурява промяна на коефициента на усилване чрез управляващо напрежение в 2 обхвата:   -11dB </a:t>
            </a:r>
            <a:r>
              <a:rPr b="1" lang="bg-BG" sz="14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1" lang="bg-BG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+31dB</a:t>
            </a:r>
            <a:r>
              <a:rPr b="1" lang="bg-BG" sz="1400" spc="-1" strike="noStrike">
                <a:solidFill>
                  <a:srgbClr val="000000"/>
                </a:solidFill>
                <a:latin typeface="Times New Roman"/>
              </a:rPr>
              <a:t> при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=90Mhz </a:t>
            </a:r>
            <a:r>
              <a:rPr b="1" lang="bg-BG" sz="1400" spc="-1" strike="noStrike">
                <a:solidFill>
                  <a:srgbClr val="000000"/>
                </a:solidFill>
                <a:latin typeface="Times New Roman"/>
              </a:rPr>
              <a:t>и             +9dB </a:t>
            </a:r>
            <a:r>
              <a:rPr b="1" lang="bg-BG" sz="14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1" lang="bg-BG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+51dB </a:t>
            </a:r>
            <a:r>
              <a:rPr b="1" lang="bg-BG" sz="1400" spc="-1" strike="noStrike">
                <a:solidFill>
                  <a:srgbClr val="000000"/>
                </a:solidFill>
                <a:latin typeface="Times New Roman"/>
              </a:rPr>
              <a:t>при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=9Mhz .</a:t>
            </a:r>
            <a:r>
              <a:rPr b="1" lang="bg-BG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Times New Roman"/>
              </a:rPr>
              <a:t>Широчината на честотната лента не зависи от коефициента на усилване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Times New Roman"/>
              </a:rPr>
              <a:t>Коефициентът на усилване е линеен в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B</a:t>
            </a:r>
            <a:r>
              <a:rPr b="1" lang="bg-BG" sz="1400" spc="-1" strike="noStrike">
                <a:solidFill>
                  <a:srgbClr val="000000"/>
                </a:solidFill>
                <a:latin typeface="Times New Roman"/>
              </a:rPr>
              <a:t>, точно калибриран и стабилен при промяна на температурата и захранващото напрежение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 60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3809880" cy="411480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dB]=40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dB]=40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3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СПЕЦИАЛИЗИРАНИ ИНТЕГРАЛНИ СХЕМИ НА УСИЛВАТЕЛИ С ПРОГРАМИРУЕМ КОЕФИЦИЕНТ НА УСИЛВАН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685800" y="2914560"/>
          <a:ext cx="7772400" cy="2246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914560"/>
                    <a:ext cx="7772400" cy="224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Times New Roman"/>
              </a:rPr>
              <a:t>Операционни усилватели с програмиране на коефициента на усилване</a:t>
            </a:r>
            <a:br>
              <a:rPr sz="1400"/>
            </a:br>
            <a:r>
              <a:rPr b="1" lang="bg-BG" sz="1400" spc="-1" strike="noStrike">
                <a:solidFill>
                  <a:srgbClr val="000000"/>
                </a:solidFill>
                <a:latin typeface="Times New Roman"/>
              </a:rPr>
              <a:t>чрез вътрешни резистор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 52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3809880" cy="41148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Times New Roman"/>
              </a:rPr>
              <a:t>ОТЛИЧИТЕЛНИ КАЧЕСТВ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just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Times New Roman"/>
              </a:rPr>
              <a:t>AD524 притежава гарантирано малко входно напрежение на несиметрия и с малък температурен коефициент, малък шум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just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Times New Roman"/>
              </a:rPr>
              <a:t>Чрез подходящо свързване на изводите на схемата се програмират стойностите на коефициента на усилване 1, 10, 100 и 1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just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Times New Roman"/>
              </a:rPr>
              <a:t>Има изводи за нулиране на входното напрежение на несиметрия на входа и на изхода, позволяващи прецизна настройка при схеми с висока разрешаваща способност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Times New Roman"/>
              </a:rPr>
              <a:t>Осигурява честотна лента 25 kHz при коефициент на усилване 1000.</a:t>
            </a:r>
            <a:r>
              <a:rPr b="1" lang="bg-BG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 52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5800" y="1905120"/>
            <a:ext cx="5562720" cy="4114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324120" y="1981080"/>
            <a:ext cx="2133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bg-BG" sz="28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bg-BG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5940360" y="2060640"/>
            <a:ext cx="1828800" cy="9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 52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324480" y="1981080"/>
            <a:ext cx="2133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bg-BG" sz="28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bg-BG" sz="2800" spc="-1" strike="noStrike">
                <a:solidFill>
                  <a:srgbClr val="000000"/>
                </a:solidFill>
                <a:latin typeface="Times New Roman"/>
              </a:rPr>
              <a:t>=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28600" y="1905120"/>
            <a:ext cx="618336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 52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5715000" cy="41148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6400800" y="1981080"/>
            <a:ext cx="2057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bg-BG" sz="28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bg-BG" sz="2800" spc="-1" strike="noStrike">
                <a:solidFill>
                  <a:srgbClr val="000000"/>
                </a:solidFill>
                <a:latin typeface="Times New Roman"/>
              </a:rPr>
              <a:t>=2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 52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457200" y="2133720"/>
            <a:ext cx="4800600" cy="21333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5410080" y="1981080"/>
            <a:ext cx="30481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Times New Roman"/>
              </a:rPr>
              <a:t>Избор на стойности на външните резистори за получаване на различни стойности на коефициента на усилван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9T14:04:17Z</dcterms:created>
  <dc:creator>ET-PNIL</dc:creator>
  <dc:description/>
  <dc:language>en-US</dc:language>
  <cp:lastModifiedBy>PJakimov</cp:lastModifiedBy>
  <dcterms:modified xsi:type="dcterms:W3CDTF">2011-04-02T12:05:00Z</dcterms:modified>
  <cp:revision>64</cp:revision>
  <dc:subject/>
  <dc:title>СПЕЦИАЛИЗИРАНИ ИНТЕГРАЛНИ СХЕМИ НА УСИЛВАТЕЛИ С ПРОГРАМИРУЕМ КОЕФИЦИЕНТ НА УСИЛВАНЕ</dc:title>
</cp:coreProperties>
</file>