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33.wmf" ContentType="image/x-wmf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59C-DDE6-47A9-97DB-617DC7A7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2E6-D569-4211-9644-73CEB9F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C64-3860-46CF-AA1C-6FA4882B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983-4856-4336-8D1E-76526307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45B-843A-4F82-9905-9997030A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968-565B-4989-BAD5-47E116EA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0CD-D6B0-4F9C-A707-5F9E44E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C47-91EE-4732-91DA-27974504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12F-ED67-4CD2-BED4-17B9A01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634-5F7B-407A-876A-07D7ECA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B75-F603-4E32-8942-B68EC1C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D68-B83B-4069-B304-CDC93B3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485-7088-4449-8BBF-9918BE69C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76560" y="182844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526 е операционен усилвател, чийто коефициент на усилване се управлява програмно. Без добавяне на външни елементи коефициентът на усилване може да бъде 1, 2, 4, 8, 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526 притежава много малки входни токове и входно напрежение на несиметрия и много малка (0,01%) грешка на коефициента на усилван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Широчината на честотната лента за малък сигнал е 35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kHz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при коефициент на усилване 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ползва се за увеличаване на динамичния диапазон на АЦП. Включването на AD526 към 12 разряден АЦП разширява динамичния му диапазон до 9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АЦП с висока разрешаваща способ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Нулиране на входното напрежение на несимет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цифров код - AD82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2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8251 е инструментален усилвател, чийто коефициент на усилване се управлява програмно. Без добавяне на външни елементи коефициентът на усилване може да бъде 1, 2, 4, 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8251 притежава много голям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RR (98 dB min),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много малки температурни изменения на входното напрежение на несиметрия и на коефициента на усилван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8251 има малък шум, голям входен импеданс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висока Sr</a:t>
            </a:r>
            <a:r>
              <a:rPr b="1" lang="bg-BG" sz="1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=20V/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ползва се в системи за събиране на аналогова информация, биомедицински изследвания, измервателни, контролни и управляващи систе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2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41972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коефициента на усилване чрез микроконтрол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цифров код - AD8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5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8557 е инструментален усилвател с цифрово управление на коефициента на усилване (28 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1300) и на отместването на изходното напреже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AD8557 притежава много голям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RR (96 dB min),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много малко входно напрежение на несиметрия с малък температурен коефициент на изменени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ползва се за усилване на сигнали от различни видове сензори - в автомобилната електроника, измерване на налягане, на преместване, на усилие, на ток, на температура (с термодвойки)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858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557</a:t>
            </a:r>
            <a:br>
              <a:rPr sz="4400"/>
            </a:b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Управление по еднопроводен интерфейс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“1”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W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5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“0”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W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50n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пауза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7772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5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Формат на 38 разрядната дума за програмиране н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8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557</a:t>
            </a: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Възможни стойности на коефициента на усилване на първото стъп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цифров код - AD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8557</a:t>
            </a: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Възможни стойности на коефициента на усилване на второто стъпало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и на целия усилват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цифров код - CLC5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C 5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CLC5526 е диференциален усилвател с цифрово управление на коефициента на усилване в границите -1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+3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,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със стъпка 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CLC5526 работи с еднополярно зах-ранващо напрежение +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естотната му лента е 350 MHz и не зависи от коефициента на усилва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ползва се в комуникациите (клетъчни телефони), CCD камери, оптически системи, уредостроене, обработка на медицински образи, видео системи с висока разрешаваща способност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C 5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860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B]=-12 dB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(Gain Wor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02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перационни усилватели с програмиране на коефициента на усилване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рез цифров код - LMP8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LMP8100 е операционен усилвател с цифрово управление на коефициента на усилване в границите 1 </a:t>
            </a:r>
            <a:r>
              <a:rPr b="1" lang="bg-BG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1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със стъпка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но управляеми са и функциите преминаване в режим с ниска консумация, свързване на входа към общата точка и избор на честотна компенсаци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LMP8100 е с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OS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вхо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Входното и изходното напрежения могат да се променят в рамките на захранващот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rail-to-rail)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зползва се в уредостроене, събиране на аналогова информация, измервателни, контролни и управляващи систе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иране на коефициента на усилване, режим с ниска консумация и свързване на входа към общата то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433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иране на честотната компенс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2743200"/>
            <a:ext cx="33433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383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сновна схема - програмируем неинвертиращ усилват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br>
              <a:rPr sz="4400"/>
            </a:b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Управление по сериен интерфей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коефициента на усилване в “прозрачен” реж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8100</a:t>
            </a:r>
            <a:br>
              <a:rPr sz="4400"/>
            </a:b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Последователно управление на три усилвателя по сериен интерфей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Честотна лента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Работи с еднополярно захранващо напреж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i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Ток на консумация – 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 (m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RR – 80dB (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SRR – 90dB (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Коефициенти на предаване като атенюатор – 0,096; 0,192; 0,384; 0,7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Коефициенти на усилване – 1;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Грешка на коефициента на усилване – 0,035%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a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иране чрез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I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интерфей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СНОВНИ ПРИЛО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Обработка на сигнали от сензори в обхвати -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±10V; ±5V; 0-5V; 0-10V; 0-20mA; 4-20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Системи за събиране на информация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двиг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промишлени процес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Дистанционни измервания на параметр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Програмируеми логически контроле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400"/>
            </a:b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Буфериране на АЦП с диференциален вх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73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реобразуване на двуполярен сигнал и буфериране на АЦП с несиметричен в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6247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реобразуване на еднополярен сигнал и буфериране на АЦП с несиметричен в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2009880"/>
            <a:ext cx="6408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26028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400"/>
            </a:b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рограмиране на параметр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133720"/>
            <a:ext cx="828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MSB                                                            L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Gain_1    Gain_0    EN_CL    Null_SW   Hi_Z      Gain Value (V/V)    Mode of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0               0              0               0                 0            0.096                         Attenu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0               1              0               0                 0            0.192                         Attenu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               0              0               0                 0            0.384                         Attenu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               1              0               0                 0            0.768                         Attenu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               0              1               0                 0            1                                Amplific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               1              1               0                 0            2                                Amplification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x               x              x               x                 1            –                                High Impedanc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x              x               x               1                 0            1                                Null Switch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18900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400"/>
            </a:b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Свързване към микроконтрол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706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196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18900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7312</a:t>
            </a:r>
            <a:br>
              <a:rPr sz="4400"/>
            </a:b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Обработване на сигнал от преобразувател с токов изход по стандарт 4 – 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31024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MP </a:t>
            </a: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ТЛИЧИТЕЛНИ 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Коефициенти на усилване – 10, 20, 50, 100, 200, 500,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Програмиране чре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 или паралелен и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Честотна лента 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при А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Захранващо напрежение – 2,7-5,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io = 1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Ток на консумация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8mA 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RR – 110dB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Грешка на коефициента на усилване – 0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ma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СНОВНИ ПРИЛО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бработка на сигнали от мостови сензор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вързване на тhermop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Преносима апа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Медицинска апа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Прецизни токови измер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Типично прило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6993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коефициента на усилване в “фиксиран” реж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Блокова сх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Програмиране на параметри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056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Bit No        Name                                        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0                 G0                                              Gain setting (L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                 G1                                              Gain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2                 G2                                              Gain setting (M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3                 COMP0                                      Frequency compensation setting (L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4                 COMP1                                      Frequency compensation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5                 COMP2                                      Frequency compensation setting (M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6                 MUX0                                        Input multiplexer selection (L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7                 MUX1                                        Input multiplexer selection (M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8                 POL                                            Input polarit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9                 SHDN                                         Shutdown 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0               FILT                                           Enable filtering using external 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1               PIN                                             Fault detection pin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2               CUR0                                         Fault detection current setting (L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3               CUR1                                         Fault detection curren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4               CUR2                                         Fault detection current setting (M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15               N/A                                            Unused, set t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39640" y="1557360"/>
          <a:ext cx="8209080" cy="5030640"/>
        </p:xfrm>
        <a:graphic>
          <a:graphicData uri="http://schemas.openxmlformats.org/drawingml/2006/table">
            <a:tbl>
              <a:tblPr/>
              <a:tblGrid>
                <a:gridCol w="863640"/>
                <a:gridCol w="865080"/>
                <a:gridCol w="2951280"/>
                <a:gridCol w="3529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 Input for POL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 Input for POL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MP 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Управление на входове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11280" y="2044800"/>
            <a:ext cx="2521080" cy="993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51640" y="2046240"/>
            <a:ext cx="2520720" cy="993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340000" y="3182760"/>
            <a:ext cx="2736720" cy="1078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651640" y="3141720"/>
            <a:ext cx="2736720" cy="107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484360" y="4437000"/>
            <a:ext cx="2592360" cy="10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5651640" y="4424400"/>
            <a:ext cx="2592360" cy="105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2700360" y="5661000"/>
            <a:ext cx="2232000" cy="892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5724360" y="5589720"/>
            <a:ext cx="2376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Цифрово нулиране на несиметрията на операционен усилват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C 5526</a:t>
            </a:r>
            <a:br>
              <a:rPr sz="4400"/>
            </a:br>
            <a:br>
              <a:rPr sz="4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азположение на изводи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сновни правила при опроводяване на печатни платки със смесени схе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701720"/>
            <a:ext cx="8001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1911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коефициента на усилване във “фиксиран” режим с използване на външен регистъ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4724280" cy="373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243828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Таблица на истинност на цифровите входов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br>
              <a:rPr sz="44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Каскадно свързв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04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274320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Да се свържат каскадно два усилвателя за изпълнение на показаната таблица на истинност на цифровите входов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АЦП с плаваща запе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4:04:17Z</dcterms:created>
  <dc:creator>ET-PNIL</dc:creator>
  <dc:description/>
  <dc:language>en-US</dc:language>
  <cp:lastModifiedBy>PJakimov</cp:lastModifiedBy>
  <dcterms:modified xsi:type="dcterms:W3CDTF">2011-04-26T09:47:57Z</dcterms:modified>
  <cp:revision>64</cp:revision>
  <dc:subject/>
  <dc:title>СПЕЦИАЛИЗИРАНИ ИНТЕГРАЛНИ СХЕМИ НА УСИЛВАТЕЛИ С ПРОГРАМИРУЕМ КОЕФИЦИЕНТ НА УСИЛВАНЕ</dc:title>
</cp:coreProperties>
</file>