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0.jpeg" ContentType="image/jpeg"/>
  <Override PartName="/ppt/media/image49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51.wmf" ContentType="image/x-wmf"/>
  <Override PartName="/ppt/media/image29.png" ContentType="image/png"/>
  <Override PartName="/ppt/media/image9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22.png" ContentType="image/png"/>
  <Override PartName="/ppt/media/image62.wmf" ContentType="image/x-wmf"/>
  <Override PartName="/ppt/media/image59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wmf" ContentType="image/x-wmf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74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23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56.wmf" ContentType="image/x-wmf"/>
  <Override PartName="/ppt/media/image99.png" ContentType="image/png"/>
  <Override PartName="/ppt/media/image24.png" ContentType="image/png"/>
  <Override PartName="/ppt/media/image31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17.png" ContentType="image/png"/>
  <Override PartName="/ppt/media/image8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FFC-3C20-46BF-B1F7-E6D65024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09CF-441D-429F-BC5E-324988D2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A07D-3628-4572-AA8D-D7CE35D0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F5C8-3D69-4559-AE61-48164E20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F2D-83DE-4AD9-81F3-DF081179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F7B-D68D-4998-8829-4336CC73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7EAA-1E5A-42EF-866A-FC913B31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01AA-B5BC-4002-8497-89D48833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0551-3792-46B2-A3FD-E1278EE8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CA57-7CF9-4338-953D-A741848A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E3C-CEB8-460C-93DB-FFA5C261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83B-5774-4A47-8414-2683319A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104A-470A-4540-92FD-6B3E71A7B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wmf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Times New Roman"/>
              </a:rPr>
              <a:t>Introduction to </a:t>
            </a:r>
            <a:br>
              <a:rPr sz="4000"/>
            </a:br>
            <a:r>
              <a:rPr b="1" lang="bg-BG" sz="4000" spc="-1" strike="noStrike">
                <a:solidFill>
                  <a:srgbClr val="000000"/>
                </a:solidFill>
                <a:latin typeface="Times New Roman"/>
              </a:rPr>
              <a:t>Switched-Capacitor (SC) circui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24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Emil D. Manolov, Assoc. Prof., Ph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Phillip T. Koparanov, Asst. Prof., M.S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4EC-1FA1-4809-827A-D206721B38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720" y="6094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Switched-Capacitor Circuits 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1676520"/>
            <a:ext cx="723888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Reduced silicon are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Good accuracy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constants are implemented with capacitor ratios (~0.1%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require a low-impedance output stage (OTA could be u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implemented by using digital circuit process technolog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appropriate  for operating with ADC &amp; D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AE3E-75EA-4C50-94BD-208B14E39C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19320" y="53352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Switched-Capacitor Techniques are used for the implementation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981080"/>
            <a:ext cx="8381880" cy="34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Sensor interface circuits - Amplifiers, Comparato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ADC, DAC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ma-Delta, and Nonlinear circui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buClr>
                <a:srgbClr val="3333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3333cd"/>
                </a:solidFill>
                <a:latin typeface="Times New Roman"/>
              </a:rPr>
              <a:t> </a:t>
            </a:r>
            <a:r>
              <a:rPr b="0" lang="bg-BG" sz="2800" spc="-1" strike="noStrike">
                <a:solidFill>
                  <a:srgbClr val="3333cd"/>
                </a:solidFill>
                <a:latin typeface="Times New Roman"/>
              </a:rPr>
              <a:t>Signal Processing circuits - Filters, Neural;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3333cd"/>
                </a:solidFill>
                <a:latin typeface="Times New Roman"/>
              </a:rPr>
              <a:t>Oscillator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3333cd"/>
                </a:solidFill>
                <a:latin typeface="Times New Roman"/>
              </a:rPr>
              <a:t>P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C0CB-1311-43A2-9CB4-892856EA24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533520"/>
            <a:ext cx="8077320" cy="9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At present Switched-Capacitor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is applied i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286000"/>
            <a:ext cx="8763120" cy="33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Custom Application Specific Integrated Circuits (AS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Fie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able Analog Array (FPA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Programmable Mixed-Signal Array (FP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Integrated Circuits as a Programmable Capac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(PCA) or Configurable Analog Block (C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154-E60A-4459-8275-9255298E2F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057400" y="2209680"/>
            <a:ext cx="579132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2. Basic Operation and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ple SC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3061-3794-4641-AC21-195B6F41F8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05320" cy="2392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3505320" cy="2000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62520" y="304920"/>
            <a:ext cx="4800600" cy="64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Simple SC ampl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t1 and t2 are controlled by  two non-overlapping clock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t1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U(C1)=Uin           Q(C1)=C1*Ui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U(C2)=Uout=0;    Q(C2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is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The negative input of  Op Amp is virtually grounded and the charge Q(C1) transfers into capacitor C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H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Q(C2)=C2*U(C2)=Q(C1)=C1*U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Uout=-U(C2)=-(C1/C2)*U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80880" y="2666880"/>
            <a:ext cx="3505320" cy="1722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177D-6992-45E1-82CA-081205F402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2634" t="10766" r="3337" b="5806"/>
          <a:stretch/>
        </p:blipFill>
        <p:spPr>
          <a:xfrm>
            <a:off x="609480" y="685800"/>
            <a:ext cx="815364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4301-CC39-4B3D-88E1-EA3583559B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925040" cy="4283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362320" y="457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Noninverting SC ampl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69F-F7D0-4A5B-B238-0E9EFC6AA5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5365" t="7516" r="8942" b="30062"/>
          <a:stretch/>
        </p:blipFill>
        <p:spPr>
          <a:xfrm>
            <a:off x="2057400" y="1143000"/>
            <a:ext cx="5562720" cy="2492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447920" y="3808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Discrete-time integ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46483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666880" y="3657600"/>
                <a:ext cx="38228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590920" y="4648320"/>
                <a:ext cx="43545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124080" y="5638680"/>
                <a:ext cx="28069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CC0-C042-4BAA-9881-83454A2DA9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952880" y="4114800"/>
            <a:ext cx="3598920" cy="2054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598920" cy="2052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0" t="0" r="0" b="4386"/>
          <a:stretch/>
        </p:blipFill>
        <p:spPr>
          <a:xfrm>
            <a:off x="4952880" y="2133720"/>
            <a:ext cx="3598920" cy="196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62120" y="990720"/>
            <a:ext cx="3504960" cy="2085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762120" y="3733920"/>
            <a:ext cx="3504960" cy="200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B629-7DF7-41AF-B969-B0D592041D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572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-Time integra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23623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Continuous-Time integra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600200" y="3200400"/>
                <a:ext cx="35416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in</m:t>
                        </m:r>
                      </m:num>
                      <m:den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1523880" y="4952880"/>
            <a:ext cx="495324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048120"/>
            <a:ext cx="3047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4343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H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676520" y="5257800"/>
                <a:ext cx="464796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676520" y="1143000"/>
                <a:ext cx="487656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U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A6F-C215-4D78-94D6-1F36221547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16840" y="304920"/>
            <a:ext cx="50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Introduction to SC circui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000" y="1371600"/>
            <a:ext cx="82458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1. SC circuits and signal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2. Basic Operation and Analysis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SC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3. Basic Building Blocks of Switched-Capacitor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4. Typical Switched-Capacit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Practical examp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CD7-0324-4DB2-81A5-F8B686D77A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810240" cy="286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76520" y="3049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Area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31240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AREA=178.57 mils</a:t>
            </a:r>
            <a:r>
              <a:rPr b="0" lang="bg-BG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bg-BG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0.115mm</a:t>
            </a:r>
            <a:r>
              <a:rPr b="0" lang="bg-BG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810240" cy="2508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52880" y="4114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AREA=7 776 mils</a:t>
            </a:r>
            <a:r>
              <a:rPr b="0" lang="bg-BG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bg-BG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5 mm</a:t>
            </a:r>
            <a:r>
              <a:rPr b="0" lang="bg-BG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5486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1mm </a:t>
            </a:r>
            <a:r>
              <a:rPr b="0" lang="bg-BG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40 m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59436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1mm</a:t>
            </a:r>
            <a:r>
              <a:rPr b="0" lang="bg-BG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1600 mils</a:t>
            </a:r>
            <a:r>
              <a:rPr b="0" lang="bg-BG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5029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1mil = 25.4 e-3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E0A8-34C1-4984-A0AE-91795BB6F9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38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onstant Comparis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1143000"/>
            <a:ext cx="609588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inuous-Ti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        is the accuracy of   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 temperature depe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133720" y="1828800"/>
                <a:ext cx="44193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τ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→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÷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819520" y="3200400"/>
                <a:ext cx="5220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τ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019920" y="3352680"/>
                <a:ext cx="3157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905120" y="4114800"/>
                <a:ext cx="315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828800" y="4106880"/>
            <a:ext cx="6056280" cy="275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screte-Ti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057400" y="4724280"/>
                <a:ext cx="5715000" cy="18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t xml:space="preserve">dτ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≃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630-919D-479B-93BF-A9B6EB2F93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35757" r="11220" b="0"/>
          <a:stretch/>
        </p:blipFill>
        <p:spPr>
          <a:xfrm>
            <a:off x="533520" y="2133720"/>
            <a:ext cx="8153280" cy="2468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2120" y="457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What the Switched-Capacitor i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E85-4673-47B9-B346-98328FA777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4706" r="0" b="0"/>
          <a:stretch/>
        </p:blipFill>
        <p:spPr>
          <a:xfrm>
            <a:off x="380880" y="1066680"/>
            <a:ext cx="7696440" cy="5791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Fou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es of Switched-Capacitor Resistor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320-517A-4EDE-9320-A33ED98270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3338" t="16364" r="6666" b="0"/>
          <a:stretch/>
        </p:blipFill>
        <p:spPr>
          <a:xfrm>
            <a:off x="609480" y="1143000"/>
            <a:ext cx="7467840" cy="5354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144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Negative” Resi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F10-D6DA-490B-B9F9-2C73A6D0A4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21879" r="0" b="2778"/>
          <a:stretch/>
        </p:blipFill>
        <p:spPr>
          <a:xfrm>
            <a:off x="762120" y="1295280"/>
            <a:ext cx="7543800" cy="2452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9480" y="457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Negative” Resistor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0" t="0" r="0" b="8694"/>
          <a:stretch/>
        </p:blipFill>
        <p:spPr>
          <a:xfrm>
            <a:off x="838080" y="3886200"/>
            <a:ext cx="4496040" cy="240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31EA-12D6-4FF4-8DA4-296F8FAAED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0"/>
            <a:ext cx="78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4591080" cy="2581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4543200" cy="2581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4120" y="762120"/>
            <a:ext cx="29718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Inve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000"/>
              </a:lnSpc>
              <a:spcBef>
                <a:spcPts val="20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ampl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3962520"/>
            <a:ext cx="3047760" cy="9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Noninve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ampl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6F5-D721-449E-B2A5-4F2F984C2A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9A8-6381-4201-9912-B75222A7C5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457200"/>
            <a:ext cx="64008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imes New Roman"/>
              </a:rPr>
              <a:t>3. Basic building block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imes New Roman"/>
              </a:rPr>
              <a:t>Switched-Capacitor Circu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3048120"/>
            <a:ext cx="4267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Capaci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Operational amplif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Clock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A5D8-35D7-46FF-9A19-096C555A2EB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7707" t="8125" r="6562" b="0"/>
          <a:stretch/>
        </p:blipFill>
        <p:spPr>
          <a:xfrm>
            <a:off x="685800" y="1176480"/>
            <a:ext cx="7848720" cy="5013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52480" y="3808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Capaci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6B21-FBD6-4FAA-BEB7-1AAC721F9A8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3049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Internet materials by the following authors are used for the presentation composing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209680"/>
            <a:ext cx="80773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905120"/>
            <a:ext cx="8763120" cy="47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David Johns &amp; Ken Martin - University of Toro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Fhillip Allen &amp; Edgar Sanches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encio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as A&amp;M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zad Razavi - AT&amp;T Bell Laborator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Baker, Li &amp; Boyce - University of Ida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Haskard &amp; May - South Australian Institute of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Edwards, Strohnehn, Jaskulek &amp; Katz - Johns Hopk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Anadigm Inc.,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Motorola Inc.,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EFD-C6B8-4640-991D-42651AC232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565880" cy="601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1F75-2966-42F3-8C4B-AC8CC54974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0" t="14971" r="0" b="0"/>
          <a:stretch/>
        </p:blipFill>
        <p:spPr>
          <a:xfrm>
            <a:off x="533520" y="1143000"/>
            <a:ext cx="8062920" cy="4761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828800" y="3808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584-9CA6-42B4-9DEE-037DA5A7BA7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5370" t="10927" r="6448" b="12817"/>
          <a:stretch/>
        </p:blipFill>
        <p:spPr>
          <a:xfrm>
            <a:off x="533520" y="1050840"/>
            <a:ext cx="8001000" cy="4975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9480" y="380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Small-signal on-resistance of MOS swi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D2F-C863-4C32-8789-DC8808F996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76312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201-A6A7-464F-9659-019A61D240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23337" t="30164" r="14449" b="26761"/>
          <a:stretch/>
        </p:blipFill>
        <p:spPr>
          <a:xfrm>
            <a:off x="838080" y="1657440"/>
            <a:ext cx="7239240" cy="3878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600200" y="3808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Capacitive Feedthr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611-6644-43DA-BD2C-95A3446A68B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16668" t="0" r="20005" b="14246"/>
          <a:stretch/>
        </p:blipFill>
        <p:spPr>
          <a:xfrm>
            <a:off x="685800" y="1447920"/>
            <a:ext cx="7848720" cy="4336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62120" y="457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SC Amplifier with switch overlap capaci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1C1-8452-408F-9BDE-F13E93928D2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3924" t="27910" r="2940" b="6319"/>
          <a:stretch/>
        </p:blipFill>
        <p:spPr>
          <a:xfrm>
            <a:off x="380880" y="1828800"/>
            <a:ext cx="8229600" cy="4057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9480" y="380880"/>
            <a:ext cx="8077320" cy="9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Operational Amplif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(practical consider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F82A-BE75-4590-90D3-BCBCD428BC5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4895" t="2360" r="3343" b="15291"/>
          <a:stretch/>
        </p:blipFill>
        <p:spPr>
          <a:xfrm>
            <a:off x="1828800" y="990720"/>
            <a:ext cx="5867280" cy="5476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981080" y="3049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Example of Low-noise Op 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1DC-E02A-41FA-979A-DFFED025759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2472" t="4626" r="0" b="11108"/>
          <a:stretch/>
        </p:blipFill>
        <p:spPr>
          <a:xfrm>
            <a:off x="1066680" y="914400"/>
            <a:ext cx="6934320" cy="5742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57200" y="380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Differential OTA without Slew-Rate lim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FAF4-55FE-42FC-9B05-A4965C95E1B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0" t="10227" r="0" b="0"/>
          <a:stretch/>
        </p:blipFill>
        <p:spPr>
          <a:xfrm>
            <a:off x="533520" y="1295280"/>
            <a:ext cx="8001000" cy="4875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600200" y="3049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Two-phase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CBDE-A4EC-498C-A559-9D9EB502BD3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2438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1. SC circuits and signal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28C-73E3-4608-AB4B-282BD562E1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0" t="13642" r="0" b="0"/>
          <a:stretch/>
        </p:blipFill>
        <p:spPr>
          <a:xfrm>
            <a:off x="762120" y="1371600"/>
            <a:ext cx="7646760" cy="4826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80880" y="3808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Two-phase generator - practical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7267-12DC-4646-BBE5-9466D940373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638680" cy="5622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" y="304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Re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ock signals for complex SC cir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0005-D68C-455E-BAF4-4B83B0A4B26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95280" y="2362320"/>
            <a:ext cx="681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imes New Roman"/>
              </a:rPr>
              <a:t>4. Typical Switched-Capacitor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ircu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DD7-3A85-4124-BF33-3A76972F2D8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33200"/>
            <a:ext cx="9144000" cy="659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9D3F-9B9B-4318-B18F-20478F94EDD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5835" t="13809" r="5835" b="31590"/>
          <a:stretch/>
        </p:blipFill>
        <p:spPr>
          <a:xfrm>
            <a:off x="533520" y="1447920"/>
            <a:ext cx="8076960" cy="3616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38080" y="4572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Generally of sample clock 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rcRect l="-825" t="85461" r="11667" b="0"/>
          <a:stretch/>
        </p:blipFill>
        <p:spPr>
          <a:xfrm>
            <a:off x="457200" y="5105520"/>
            <a:ext cx="8153280" cy="93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8E4-89B4-4E5F-B7F1-0153E75B577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733920" cy="3057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4419720" cy="2686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295280" y="4419720"/>
            <a:ext cx="3353040" cy="1295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457200"/>
            <a:ext cx="78487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Half Cycle Inverting Gain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with offset comp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641-6508-4EA2-9911-FA837140B85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230720" cy="2253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733920" cy="3146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5800" y="457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Noninverting Gain Stage  with offset compensation ( half cycle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447920" y="4191120"/>
            <a:ext cx="2819160" cy="144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6B13-5D58-487C-BED4-4C711A2ADD5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304920" y="1295280"/>
            <a:ext cx="8381520" cy="4953240"/>
            <a:chOff x="304920" y="1295280"/>
            <a:chExt cx="8381520" cy="4953240"/>
          </a:xfrm>
        </p:grpSpPr>
        <p:grpSp>
          <p:nvGrpSpPr>
            <p:cNvPr id="165" name=""/>
            <p:cNvGrpSpPr/>
            <p:nvPr/>
          </p:nvGrpSpPr>
          <p:grpSpPr>
            <a:xfrm>
              <a:off x="304920" y="1752480"/>
              <a:ext cx="2854440" cy="3381120"/>
              <a:chOff x="304920" y="1752480"/>
              <a:chExt cx="2854440" cy="3381120"/>
            </a:xfrm>
          </p:grpSpPr>
          <p:graphicFrame>
            <p:nvGraphicFramePr>
              <p:cNvPr id="166" name=""/>
              <p:cNvGraphicFramePr/>
              <p:nvPr/>
            </p:nvGraphicFramePr>
            <p:xfrm>
              <a:off x="304920" y="1752480"/>
              <a:ext cx="2854440" cy="1968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6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04920" y="1752480"/>
                        <a:ext cx="2854440" cy="1968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4400" y="4038480"/>
                <a:ext cx="1663200" cy="1095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9" name="" descr=""/>
            <p:cNvPicPr/>
            <p:nvPr/>
          </p:nvPicPr>
          <p:blipFill>
            <a:blip r:embed="rId4">
              <a:biLevel thresh="50000"/>
            </a:blip>
            <a:stretch/>
          </p:blipFill>
          <p:spPr>
            <a:xfrm>
              <a:off x="2796120" y="1295280"/>
              <a:ext cx="5890320" cy="495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"/>
          <p:cNvSpPr/>
          <p:nvPr/>
        </p:nvSpPr>
        <p:spPr>
          <a:xfrm>
            <a:off x="1066680" y="3049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Noninverting Sum Amplifier 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( half cycle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C1A-9A27-4B29-9747-6D23AD57879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685800" y="1523880"/>
            <a:ext cx="7391520" cy="4267440"/>
            <a:chOff x="685800" y="1523880"/>
            <a:chExt cx="7391520" cy="426744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685800" y="1917720"/>
              <a:ext cx="24120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952000" y="1523880"/>
              <a:ext cx="5125320" cy="426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3"/>
            <a:stretch/>
          </p:blipFill>
          <p:spPr>
            <a:xfrm>
              <a:off x="1079640" y="3854520"/>
              <a:ext cx="1406160" cy="97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"/>
          <p:cNvSpPr/>
          <p:nvPr/>
        </p:nvSpPr>
        <p:spPr>
          <a:xfrm>
            <a:off x="2209680" y="30492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Subtract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l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8BE0-4E6B-465E-833B-364AEEBC6F2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5171" t="4170" r="6900" b="23021"/>
          <a:stretch/>
        </p:blipFill>
        <p:spPr>
          <a:xfrm>
            <a:off x="914400" y="1185840"/>
            <a:ext cx="7162920" cy="4916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905120" y="3049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Summing Amplifier with Re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C82-6B44-4FC9-9475-A8B89CADDFB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5335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Analog Worl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Digital Signa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67840" cy="1943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3886200"/>
            <a:ext cx="746784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Amplifier &amp; Filter can be implemented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- analog (continuous-time) circuits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- sampl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(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discrete-time) circui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ADC operates as a sampled-data (discrete-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circui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P is implemented as a digital circu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98EE-F2C5-4C30-B02B-6905C15036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304920" y="1143000"/>
            <a:ext cx="8458200" cy="5029200"/>
            <a:chOff x="304920" y="1143000"/>
            <a:chExt cx="8458200" cy="5029200"/>
          </a:xfrm>
        </p:grpSpPr>
        <p:graphicFrame>
          <p:nvGraphicFramePr>
            <p:cNvPr id="179" name=""/>
            <p:cNvGraphicFramePr/>
            <p:nvPr/>
          </p:nvGraphicFramePr>
          <p:xfrm>
            <a:off x="304920" y="1616040"/>
            <a:ext cx="2500920" cy="2379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616040"/>
                      <a:ext cx="2500920" cy="237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542880" y="4613040"/>
              <a:ext cx="1476360" cy="92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4">
              <a:biLevel thresh="50000"/>
            </a:blip>
            <a:stretch/>
          </p:blipFill>
          <p:spPr>
            <a:xfrm>
              <a:off x="2687040" y="1143000"/>
              <a:ext cx="6076080" cy="502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"/>
          <p:cNvSpPr/>
          <p:nvPr/>
        </p:nvSpPr>
        <p:spPr>
          <a:xfrm>
            <a:off x="2820600" y="38088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Inverting Gain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2A5F-CA03-4026-975E-C18C0968BDF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3880" y="380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Inverting Sum Ampl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248160" cy="3514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4419720" cy="200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0EDD-F525-4699-BA36-4C6C940CD29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5867280" cy="4268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81080" y="3808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Positive DC Voltage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29400" y="4191120"/>
            <a:ext cx="1981080" cy="147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38E8-A102-4BFE-8828-D89BE6FF625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457200" y="1295280"/>
            <a:ext cx="8229240" cy="4572000"/>
            <a:chOff x="457200" y="1295280"/>
            <a:chExt cx="8229240" cy="4572000"/>
          </a:xfrm>
        </p:grpSpPr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>
              <a:off x="457200" y="1960200"/>
              <a:ext cx="2388240" cy="30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651040" y="1295280"/>
              <a:ext cx="6035400" cy="45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"/>
          <p:cNvSpPr/>
          <p:nvPr/>
        </p:nvSpPr>
        <p:spPr>
          <a:xfrm>
            <a:off x="2057400" y="5335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Schmitt Trig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40FD-3AE7-48CE-90FC-BFC31D871FE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657680" cy="2328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057400" y="533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Dynamic Comparator &amp; L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733560" cy="2797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33520" y="4038480"/>
            <a:ext cx="8229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bg-BG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1 is “high”, U</a:t>
            </a:r>
            <a:r>
              <a:rPr b="0" lang="bg-BG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=U* U</a:t>
            </a:r>
            <a:r>
              <a:rPr b="0" lang="bg-BG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=V</a:t>
            </a:r>
            <a:r>
              <a:rPr b="0" lang="bg-BG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, U(C</a:t>
            </a:r>
            <a:r>
              <a:rPr b="0" lang="bg-BG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)=V</a:t>
            </a:r>
            <a:r>
              <a:rPr b="0" lang="bg-BG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-U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(U* is intercept point of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ter,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where Uin=Uout=U*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bg-BG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 becomes “high”,  U</a:t>
            </a:r>
            <a:r>
              <a:rPr b="0" lang="bg-BG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lang="bg-BG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-U(C</a:t>
            </a:r>
            <a:r>
              <a:rPr b="0" lang="bg-BG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)= V</a:t>
            </a:r>
            <a:r>
              <a:rPr b="0" lang="bg-BG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0" lang="bg-BG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+U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if V</a:t>
            </a:r>
            <a:r>
              <a:rPr b="0" lang="bg-BG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0" lang="bg-BG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0" lang="bg-BG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Uout=“1”, if V</a:t>
            </a:r>
            <a:r>
              <a:rPr b="0" lang="bg-BG" sz="2400" spc="-1" strike="noStrike" baseline="5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0" lang="bg-BG" sz="2400" spc="-1" strike="noStrike" baseline="5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0 </a:t>
            </a:r>
            <a:r>
              <a:rPr b="0" lang="bg-BG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Uout=“0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9A5-0FAC-4687-AFCC-CC68EF27AB2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238880" cy="3121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362320" y="3049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Lim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4800600"/>
            <a:ext cx="624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819520" y="4346640"/>
                <a:ext cx="4190760" cy="23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C20E-6C53-49F3-B96D-01DD9E74079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609480" y="838080"/>
            <a:ext cx="7848720" cy="5181840"/>
            <a:chOff x="609480" y="838080"/>
            <a:chExt cx="7848720" cy="51818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609480" y="1298520"/>
              <a:ext cx="2606760" cy="177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1245600" y="3448080"/>
              <a:ext cx="101592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2730240" y="838080"/>
              <a:ext cx="5727960" cy="518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"/>
          <p:cNvSpPr/>
          <p:nvPr/>
        </p:nvSpPr>
        <p:spPr>
          <a:xfrm>
            <a:off x="1828800" y="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Inverting Integ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C416-F86E-4EF1-ADB6-5C16CA6F174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rcRect l="4971" t="21732" r="0" b="0"/>
          <a:stretch/>
        </p:blipFill>
        <p:spPr>
          <a:xfrm>
            <a:off x="914400" y="1981080"/>
            <a:ext cx="7280280" cy="3568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914400" y="3808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Conventional stray-insensitive integ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1CCB-FA4E-4B41-B1AB-7B9BC89DB54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4191120" cy="2649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295280" y="6094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High-pass single pole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057400" y="4648320"/>
            <a:ext cx="4486320" cy="92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4C2-3C2A-490E-A07F-33FB3204E40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7010640" cy="3036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981080" y="4572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Low-pass biquad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38080" y="4419720"/>
            <a:ext cx="7543800" cy="151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6E1-4DA2-4017-BD62-59AEA3DEB97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38080" y="3808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Continuous-Time, Sampled Data and Digital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676520"/>
            <a:ext cx="594360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Continuous-Time                                                               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- Continuous values in time                                               - Continuous values in magn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Sampled Data (Discrete-Time)                                                                   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- Continuous values in magnitude                                       - Discrete values i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Digital                                                                                     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- Discrete values in magnitude                                              - Discrete values in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22E-09AF-414A-A169-72B8411C3C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696080" cy="3489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066680" y="3808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A direct mapping from an active RC filter into a SC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3520" y="556272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Active RC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AE9F-79C9-427B-8BAB-02110F32635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534520" cy="4228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066680" y="3808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A direct mapping from an active RC filter into a SC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04600" y="586728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New SC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55ED-0DA4-471C-9D0E-C5AECF27FCC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3733920" cy="1206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3886200" cy="2639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37160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Low-pass filter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5334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R1 and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3733920" y="1295280"/>
            <a:ext cx="5410080" cy="22971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086600" y="2819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3657600" y="3581280"/>
            <a:ext cx="5486400" cy="22813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7086600" y="5791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C4 and 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77EA-543F-4602-9850-43998D222B5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rcRect l="1965" t="0" r="0" b="9194"/>
          <a:stretch/>
        </p:blipFill>
        <p:spPr>
          <a:xfrm>
            <a:off x="838080" y="1600200"/>
            <a:ext cx="7620120" cy="4108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057400" y="3808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Sinusoidal Oscillator based on a Bandpass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57400" y="57913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Block cir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9A79-6F62-4DDA-93A8-D9D0A90AE23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rcRect l="1000" t="4879" r="2000" b="8918"/>
          <a:stretch/>
        </p:blipFill>
        <p:spPr>
          <a:xfrm>
            <a:off x="457200" y="1219320"/>
            <a:ext cx="8305920" cy="4538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133720" y="59436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SC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Sinusoidal Oscillator based on a Bandpass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15A-8128-43B7-96D1-A7AF777197E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3638520" cy="25052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3581280" cy="25002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rcRect l="12615" t="10171" r="43698" b="5086"/>
          <a:stretch/>
        </p:blipFill>
        <p:spPr>
          <a:xfrm>
            <a:off x="4319640" y="1143000"/>
            <a:ext cx="4335480" cy="4800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7200" y="3049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Switched capacitor square-wave modu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D336-A1A1-4E06-9A9B-C5E081BBD9E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rcRect l="0" t="15819" r="4593" b="7673"/>
          <a:stretch/>
        </p:blipFill>
        <p:spPr>
          <a:xfrm>
            <a:off x="457200" y="1523880"/>
            <a:ext cx="8001000" cy="40784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13372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SC Full-Wave Rec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BB25-C07C-484B-B8AA-B9A7B3FE043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6858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Full Wave Rectifier with Low Pass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19320" y="1509840"/>
            <a:ext cx="7086600" cy="36417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371600" y="5410080"/>
            <a:ext cx="2514600" cy="779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191120" y="5257800"/>
            <a:ext cx="3581280" cy="113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CEB-48AD-4241-8081-803761CDF3C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62120" y="1066680"/>
            <a:ext cx="220644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3009960" cy="2327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362320" y="30492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Sample &amp; 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3581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Track &amp; 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5334120" y="4343400"/>
            <a:ext cx="2543040" cy="19335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1600200" y="4343400"/>
            <a:ext cx="2895480" cy="172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7A82-C1CB-4664-818F-6AFD46896CF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rcRect l="2735" t="12019" r="4547" b="8357"/>
          <a:stretch/>
        </p:blipFill>
        <p:spPr>
          <a:xfrm>
            <a:off x="609480" y="1066680"/>
            <a:ext cx="7772400" cy="4953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438280" y="304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SC Peak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CA5D-DFBE-4E20-AB54-536E5041A5B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15472" r="0" b="0"/>
          <a:stretch/>
        </p:blipFill>
        <p:spPr>
          <a:xfrm>
            <a:off x="380880" y="1371600"/>
            <a:ext cx="8229600" cy="4730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457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Continuous-Time and Sampled Data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8E99-6E19-4A71-85C1-619A9839E5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219320" y="3049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5. Practical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1523880"/>
            <a:ext cx="7467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Inverting Amplifier (half cyc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Noninverting Amplifi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alf cyc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Noninverting Amplifier with offset compens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alf cyc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plifier with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 offset compen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ting Integ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mitt Tri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xation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smoothing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8E0-833F-4749-86C6-A96887E90DA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219320" y="380880"/>
            <a:ext cx="67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Inverting Amplifier (half cyc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676520" y="1449360"/>
            <a:ext cx="5790960" cy="395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D99C-F1CC-4F7C-A82B-397FE525DA6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295280" y="1351080"/>
            <a:ext cx="6782040" cy="43005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38080" y="380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Noninverting Amplifier (half cyc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1A66-5A02-4672-BB81-57525999A86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4600" y="0"/>
            <a:ext cx="870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Noninverting Amplifier with offset compen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half cyc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05360" cy="473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3779-3A13-4E94-97B6-A9457479676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09480" y="3049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Amplifier with offset compens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04920" y="973080"/>
            <a:ext cx="8458200" cy="509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7FB4-C6E2-4ACF-93CE-AA911019908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371600" y="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verting Integrator, Schmitt Trigger, Relaxation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905120" y="1133640"/>
            <a:ext cx="5790960" cy="545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283D-66FB-469E-94ED-D396F0A3774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206440" y="380880"/>
            <a:ext cx="43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put smoothing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76760" cy="411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FAED-4D80-4078-95AB-50FA87BD641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905120" y="3049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imes New Roman"/>
              </a:rPr>
              <a:t>6. 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914400"/>
            <a:ext cx="7467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SC circuits ens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High precision (0.2-1 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Reduced Silicon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sensitiv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stray capacitors and offset vol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quirements for low-impedance output stage (OTA could be u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implemented using digital circuit process technolog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appropriate for operating with DSP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EADA-8042-4702-9CC9-A4CB74BEF04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11432" r="0" b="0"/>
          <a:stretch/>
        </p:blipFill>
        <p:spPr>
          <a:xfrm>
            <a:off x="380880" y="1143000"/>
            <a:ext cx="8382240" cy="5108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304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Sampled Analog and Digital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0E4-40DF-4229-A313-0C4733083D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38080" y="45720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Two approaches of Amplifier &amp; Filter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743200"/>
            <a:ext cx="8839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By using conventional analog (continuous-time) circui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By using switched-capacitor (discrete-time) circu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AD43-4FAB-4661-BBA8-2CBBE1A60E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0:49:42Z</dcterms:created>
  <dc:creator>User</dc:creator>
  <dc:description/>
  <dc:language>en-US</dc:language>
  <cp:lastModifiedBy>Emil Manolov</cp:lastModifiedBy>
  <dcterms:modified xsi:type="dcterms:W3CDTF">2007-11-08T08:55:19Z</dcterms:modified>
  <cp:revision>182</cp:revision>
  <dc:subject/>
  <dc:title>Introduction to  Switched Capacitor (SC) circuitry</dc:title>
</cp:coreProperties>
</file>